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FF5-170A-4A9C-88FE-8B7EB0FA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ECD-871E-4E40-AD24-5978DBB6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27E-BD01-47D3-8307-63E03D6F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043-DD41-42F3-84F1-F4325D47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B60-0F02-4CAE-83A4-8EBF3E7C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2B3-71E3-424D-ABF1-7F2D4412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0D6-F726-4F54-873D-3D8C6816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D25-21F3-4428-AD9B-8EC7446C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8F39-DF05-4093-9CE4-031AA67B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D31-9C26-4227-9AB5-5ACC7FA4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9A74-4B9F-434D-87B9-DDE97053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FD57-EE32-49C1-8C92-99A9946E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ED3F-3E14-43A3-95CD-777962F79057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"/>
          <p:cNvPicPr/>
          <p:nvPr/>
        </p:nvPicPr>
        <p:blipFill>
          <a:blip r:embed="rId2"/>
          <a:stretch/>
        </p:blipFill>
        <p:spPr>
          <a:xfrm>
            <a:off x="-1362240" y="1447920"/>
            <a:ext cx="7113600" cy="39621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"/>
          <p:cNvSpPr/>
          <p:nvPr/>
        </p:nvSpPr>
        <p:spPr>
          <a:xfrm>
            <a:off x="2004840" y="2679840"/>
            <a:ext cx="818208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38"/>
                </a:solidFill>
                <a:latin typeface="Monument Extended"/>
                <a:ea typeface="Roboto Slab"/>
              </a:rPr>
              <a:t>EXPEDI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830760" y="4052880"/>
            <a:ext cx="453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Montserrat Light"/>
                <a:ea typeface="Lato"/>
              </a:rPr>
              <a:t>Lorem ipsum dolor sit amet, lacus nulla ac netus nibh aliquet, porttitr ligula justo libero vivamus porttit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TextBox 24" descr=""/>
          <p:cNvPicPr/>
          <p:nvPr/>
        </p:nvPicPr>
        <p:blipFill>
          <a:blip r:embed="rId1"/>
          <a:stretch/>
        </p:blipFill>
        <p:spPr>
          <a:xfrm>
            <a:off x="438120" y="3754440"/>
            <a:ext cx="1927080" cy="19512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20"/>
          <p:cNvSpPr/>
          <p:nvPr/>
        </p:nvSpPr>
        <p:spPr>
          <a:xfrm>
            <a:off x="1501920" y="469800"/>
            <a:ext cx="33336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5"/>
          <p:cNvSpPr/>
          <p:nvPr/>
        </p:nvSpPr>
        <p:spPr>
          <a:xfrm rot="18900000">
            <a:off x="1987560" y="4187520"/>
            <a:ext cx="12240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26"/>
          <p:cNvSpPr/>
          <p:nvPr/>
        </p:nvSpPr>
        <p:spPr>
          <a:xfrm>
            <a:off x="10598040" y="4255920"/>
            <a:ext cx="123840" cy="26020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27"/>
          <p:cNvSpPr/>
          <p:nvPr/>
        </p:nvSpPr>
        <p:spPr>
          <a:xfrm rot="16200000">
            <a:off x="10256760" y="4744800"/>
            <a:ext cx="12384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593720" y="826920"/>
            <a:ext cx="900432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hape 5056"/>
          <p:cNvSpPr/>
          <p:nvPr/>
        </p:nvSpPr>
        <p:spPr>
          <a:xfrm>
            <a:off x="7589880" y="2211480"/>
            <a:ext cx="245880" cy="19512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hape 5057"/>
          <p:cNvSpPr/>
          <p:nvPr/>
        </p:nvSpPr>
        <p:spPr>
          <a:xfrm>
            <a:off x="3279600" y="2201760"/>
            <a:ext cx="136800" cy="21924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hape 5058"/>
          <p:cNvSpPr/>
          <p:nvPr/>
        </p:nvSpPr>
        <p:spPr>
          <a:xfrm>
            <a:off x="375768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hape 5059"/>
          <p:cNvSpPr/>
          <p:nvPr/>
        </p:nvSpPr>
        <p:spPr>
          <a:xfrm>
            <a:off x="2122560" y="220176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hape 5060"/>
          <p:cNvSpPr/>
          <p:nvPr/>
        </p:nvSpPr>
        <p:spPr>
          <a:xfrm>
            <a:off x="4308480" y="217656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hape 5061"/>
          <p:cNvSpPr/>
          <p:nvPr/>
        </p:nvSpPr>
        <p:spPr>
          <a:xfrm>
            <a:off x="4869000" y="218592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hape 5062"/>
          <p:cNvSpPr/>
          <p:nvPr/>
        </p:nvSpPr>
        <p:spPr>
          <a:xfrm>
            <a:off x="6515280" y="218592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hape 5063"/>
          <p:cNvSpPr/>
          <p:nvPr/>
        </p:nvSpPr>
        <p:spPr>
          <a:xfrm>
            <a:off x="1030320" y="218592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hape 5064"/>
          <p:cNvSpPr/>
          <p:nvPr/>
        </p:nvSpPr>
        <p:spPr>
          <a:xfrm>
            <a:off x="5413320" y="219060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hape 5065"/>
          <p:cNvSpPr/>
          <p:nvPr/>
        </p:nvSpPr>
        <p:spPr>
          <a:xfrm>
            <a:off x="9794880" y="2222640"/>
            <a:ext cx="228600" cy="231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hape 5066"/>
          <p:cNvSpPr/>
          <p:nvPr/>
        </p:nvSpPr>
        <p:spPr>
          <a:xfrm>
            <a:off x="2660760" y="2759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hape 5067"/>
          <p:cNvSpPr/>
          <p:nvPr/>
        </p:nvSpPr>
        <p:spPr>
          <a:xfrm>
            <a:off x="2697120" y="214164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hape 5068"/>
          <p:cNvSpPr/>
          <p:nvPr/>
        </p:nvSpPr>
        <p:spPr>
          <a:xfrm>
            <a:off x="9210600" y="2759040"/>
            <a:ext cx="231840" cy="230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hape 5069"/>
          <p:cNvSpPr/>
          <p:nvPr/>
        </p:nvSpPr>
        <p:spPr>
          <a:xfrm>
            <a:off x="4862520" y="2732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5070"/>
          <p:cNvSpPr/>
          <p:nvPr/>
        </p:nvSpPr>
        <p:spPr>
          <a:xfrm>
            <a:off x="10341000" y="279252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5071"/>
          <p:cNvSpPr/>
          <p:nvPr/>
        </p:nvSpPr>
        <p:spPr>
          <a:xfrm>
            <a:off x="9796320" y="2860560"/>
            <a:ext cx="155880" cy="25560"/>
          </a:xfrm>
          <a:custGeom>
            <a:avLst/>
            <a:gdLst>
              <a:gd name="textAreaLeft" fmla="*/ 0 w 155880"/>
              <a:gd name="textAreaRight" fmla="*/ 156240 w 155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5072"/>
          <p:cNvSpPr/>
          <p:nvPr/>
        </p:nvSpPr>
        <p:spPr>
          <a:xfrm>
            <a:off x="3218040" y="326376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5073"/>
          <p:cNvSpPr/>
          <p:nvPr/>
        </p:nvSpPr>
        <p:spPr>
          <a:xfrm>
            <a:off x="3211560" y="387036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5074"/>
          <p:cNvSpPr/>
          <p:nvPr/>
        </p:nvSpPr>
        <p:spPr>
          <a:xfrm>
            <a:off x="2676600" y="381780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5075"/>
          <p:cNvSpPr/>
          <p:nvPr/>
        </p:nvSpPr>
        <p:spPr>
          <a:xfrm>
            <a:off x="1595520" y="383220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5076"/>
          <p:cNvSpPr/>
          <p:nvPr/>
        </p:nvSpPr>
        <p:spPr>
          <a:xfrm>
            <a:off x="3757680" y="329256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5077"/>
          <p:cNvSpPr/>
          <p:nvPr/>
        </p:nvSpPr>
        <p:spPr>
          <a:xfrm>
            <a:off x="6537240" y="3273480"/>
            <a:ext cx="190440" cy="261720"/>
          </a:xfrm>
          <a:custGeom>
            <a:avLst/>
            <a:gdLst>
              <a:gd name="textAreaLeft" fmla="*/ 0 w 190440"/>
              <a:gd name="textAreaRight" fmla="*/ 190800 w 1904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5078"/>
          <p:cNvSpPr/>
          <p:nvPr/>
        </p:nvSpPr>
        <p:spPr>
          <a:xfrm>
            <a:off x="4871880" y="3286080"/>
            <a:ext cx="236520" cy="239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5079"/>
          <p:cNvSpPr/>
          <p:nvPr/>
        </p:nvSpPr>
        <p:spPr>
          <a:xfrm>
            <a:off x="5394240" y="3286080"/>
            <a:ext cx="277920" cy="219240"/>
          </a:xfrm>
          <a:custGeom>
            <a:avLst/>
            <a:gdLst>
              <a:gd name="textAreaLeft" fmla="*/ 0 w 277920"/>
              <a:gd name="textAreaRight" fmla="*/ 278280 w 277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5080"/>
          <p:cNvSpPr/>
          <p:nvPr/>
        </p:nvSpPr>
        <p:spPr>
          <a:xfrm>
            <a:off x="5945040" y="3276720"/>
            <a:ext cx="273240" cy="23004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5081"/>
          <p:cNvSpPr/>
          <p:nvPr/>
        </p:nvSpPr>
        <p:spPr>
          <a:xfrm>
            <a:off x="2679840" y="327348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5082"/>
          <p:cNvSpPr/>
          <p:nvPr/>
        </p:nvSpPr>
        <p:spPr>
          <a:xfrm>
            <a:off x="2122560" y="381780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Shape 5083" descr=""/>
          <p:cNvPicPr/>
          <p:nvPr/>
        </p:nvPicPr>
        <p:blipFill>
          <a:blip r:embed="rId1"/>
          <a:stretch/>
        </p:blipFill>
        <p:spPr>
          <a:xfrm>
            <a:off x="3767040" y="382284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630" name="Shape 5086"/>
          <p:cNvSpPr/>
          <p:nvPr/>
        </p:nvSpPr>
        <p:spPr>
          <a:xfrm>
            <a:off x="9794880" y="4943520"/>
            <a:ext cx="185760" cy="195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5087"/>
          <p:cNvSpPr/>
          <p:nvPr/>
        </p:nvSpPr>
        <p:spPr>
          <a:xfrm>
            <a:off x="8724960" y="380844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5088"/>
          <p:cNvSpPr/>
          <p:nvPr/>
        </p:nvSpPr>
        <p:spPr>
          <a:xfrm>
            <a:off x="10321920" y="221472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5089"/>
          <p:cNvSpPr/>
          <p:nvPr/>
        </p:nvSpPr>
        <p:spPr>
          <a:xfrm>
            <a:off x="9209160" y="4368960"/>
            <a:ext cx="263520" cy="23940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5090"/>
          <p:cNvSpPr/>
          <p:nvPr/>
        </p:nvSpPr>
        <p:spPr>
          <a:xfrm>
            <a:off x="10364760" y="4967280"/>
            <a:ext cx="130320" cy="14940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5091"/>
          <p:cNvSpPr/>
          <p:nvPr/>
        </p:nvSpPr>
        <p:spPr>
          <a:xfrm>
            <a:off x="5472000" y="3822840"/>
            <a:ext cx="111240" cy="25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5092"/>
          <p:cNvSpPr/>
          <p:nvPr/>
        </p:nvSpPr>
        <p:spPr>
          <a:xfrm>
            <a:off x="4862520" y="382284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Shape 5093" descr=""/>
          <p:cNvPicPr/>
          <p:nvPr/>
        </p:nvPicPr>
        <p:blipFill>
          <a:blip r:embed="rId2"/>
          <a:stretch/>
        </p:blipFill>
        <p:spPr>
          <a:xfrm>
            <a:off x="4352760" y="3809880"/>
            <a:ext cx="176400" cy="274680"/>
          </a:xfrm>
          <a:prstGeom prst="rect">
            <a:avLst/>
          </a:prstGeom>
          <a:ln w="0">
            <a:noFill/>
          </a:ln>
        </p:spPr>
      </p:pic>
      <p:sp>
        <p:nvSpPr>
          <p:cNvPr id="638" name="Shape 5097"/>
          <p:cNvSpPr/>
          <p:nvPr/>
        </p:nvSpPr>
        <p:spPr>
          <a:xfrm>
            <a:off x="10868040" y="220500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5098"/>
          <p:cNvSpPr/>
          <p:nvPr/>
        </p:nvSpPr>
        <p:spPr>
          <a:xfrm>
            <a:off x="4332240" y="1655640"/>
            <a:ext cx="216000" cy="21456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5099"/>
          <p:cNvSpPr/>
          <p:nvPr/>
        </p:nvSpPr>
        <p:spPr>
          <a:xfrm>
            <a:off x="8131320" y="1641600"/>
            <a:ext cx="253800" cy="242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5100"/>
          <p:cNvSpPr/>
          <p:nvPr/>
        </p:nvSpPr>
        <p:spPr>
          <a:xfrm>
            <a:off x="8667720" y="164628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hape 5101"/>
          <p:cNvSpPr/>
          <p:nvPr/>
        </p:nvSpPr>
        <p:spPr>
          <a:xfrm>
            <a:off x="6499080" y="1670040"/>
            <a:ext cx="244800" cy="184320"/>
          </a:xfrm>
          <a:custGeom>
            <a:avLst/>
            <a:gdLst>
              <a:gd name="textAreaLeft" fmla="*/ 0 w 244800"/>
              <a:gd name="textAreaRight" fmla="*/ 245160 w 244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hape 5102"/>
          <p:cNvSpPr/>
          <p:nvPr/>
        </p:nvSpPr>
        <p:spPr>
          <a:xfrm>
            <a:off x="7589880" y="1670040"/>
            <a:ext cx="245880" cy="184320"/>
          </a:xfrm>
          <a:custGeom>
            <a:avLst/>
            <a:gdLst>
              <a:gd name="textAreaLeft" fmla="*/ 0 w 245880"/>
              <a:gd name="textAreaRight" fmla="*/ 246240 w 2458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5103"/>
          <p:cNvSpPr/>
          <p:nvPr/>
        </p:nvSpPr>
        <p:spPr>
          <a:xfrm>
            <a:off x="1039680" y="1641600"/>
            <a:ext cx="246240" cy="2426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5104"/>
          <p:cNvSpPr/>
          <p:nvPr/>
        </p:nvSpPr>
        <p:spPr>
          <a:xfrm>
            <a:off x="3220920" y="168264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5105"/>
          <p:cNvSpPr/>
          <p:nvPr/>
        </p:nvSpPr>
        <p:spPr>
          <a:xfrm>
            <a:off x="5394240" y="1627200"/>
            <a:ext cx="263520" cy="272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5106"/>
          <p:cNvSpPr/>
          <p:nvPr/>
        </p:nvSpPr>
        <p:spPr>
          <a:xfrm>
            <a:off x="7029360" y="167004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5107"/>
          <p:cNvSpPr/>
          <p:nvPr/>
        </p:nvSpPr>
        <p:spPr>
          <a:xfrm>
            <a:off x="2666880" y="164160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5108"/>
          <p:cNvSpPr/>
          <p:nvPr/>
        </p:nvSpPr>
        <p:spPr>
          <a:xfrm>
            <a:off x="2174760" y="162720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hape 5109"/>
          <p:cNvSpPr/>
          <p:nvPr/>
        </p:nvSpPr>
        <p:spPr>
          <a:xfrm>
            <a:off x="10317240" y="334008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hape 5110"/>
          <p:cNvSpPr/>
          <p:nvPr/>
        </p:nvSpPr>
        <p:spPr>
          <a:xfrm>
            <a:off x="8694720" y="274176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5111"/>
          <p:cNvSpPr/>
          <p:nvPr/>
        </p:nvSpPr>
        <p:spPr>
          <a:xfrm>
            <a:off x="3787920" y="2762280"/>
            <a:ext cx="210960" cy="18720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5112"/>
          <p:cNvSpPr/>
          <p:nvPr/>
        </p:nvSpPr>
        <p:spPr>
          <a:xfrm>
            <a:off x="8682120" y="219060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5113"/>
          <p:cNvSpPr/>
          <p:nvPr/>
        </p:nvSpPr>
        <p:spPr>
          <a:xfrm>
            <a:off x="1595520" y="328608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5114"/>
          <p:cNvSpPr/>
          <p:nvPr/>
        </p:nvSpPr>
        <p:spPr>
          <a:xfrm>
            <a:off x="7039080" y="272556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5115"/>
          <p:cNvSpPr/>
          <p:nvPr/>
        </p:nvSpPr>
        <p:spPr>
          <a:xfrm>
            <a:off x="1044720" y="3224160"/>
            <a:ext cx="250560" cy="292320"/>
          </a:xfrm>
          <a:custGeom>
            <a:avLst/>
            <a:gdLst>
              <a:gd name="textAreaLeft" fmla="*/ 0 w 250560"/>
              <a:gd name="textAreaRight" fmla="*/ 250920 w 2505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5116"/>
          <p:cNvSpPr/>
          <p:nvPr/>
        </p:nvSpPr>
        <p:spPr>
          <a:xfrm>
            <a:off x="8140680" y="273204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5117"/>
          <p:cNvSpPr/>
          <p:nvPr/>
        </p:nvSpPr>
        <p:spPr>
          <a:xfrm>
            <a:off x="7580160" y="273672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5118"/>
          <p:cNvSpPr/>
          <p:nvPr/>
        </p:nvSpPr>
        <p:spPr>
          <a:xfrm>
            <a:off x="3211560" y="273204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5119"/>
          <p:cNvSpPr/>
          <p:nvPr/>
        </p:nvSpPr>
        <p:spPr>
          <a:xfrm>
            <a:off x="4336920" y="276552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5120"/>
          <p:cNvSpPr/>
          <p:nvPr/>
        </p:nvSpPr>
        <p:spPr>
          <a:xfrm>
            <a:off x="5967360" y="274644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5121"/>
          <p:cNvSpPr/>
          <p:nvPr/>
        </p:nvSpPr>
        <p:spPr>
          <a:xfrm>
            <a:off x="9756720" y="334008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5122"/>
          <p:cNvSpPr/>
          <p:nvPr/>
        </p:nvSpPr>
        <p:spPr>
          <a:xfrm>
            <a:off x="5403960" y="274176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5123"/>
          <p:cNvSpPr/>
          <p:nvPr/>
        </p:nvSpPr>
        <p:spPr>
          <a:xfrm>
            <a:off x="157464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5124"/>
          <p:cNvSpPr/>
          <p:nvPr/>
        </p:nvSpPr>
        <p:spPr>
          <a:xfrm>
            <a:off x="1633680" y="1630440"/>
            <a:ext cx="155520" cy="269640"/>
          </a:xfrm>
          <a:custGeom>
            <a:avLst/>
            <a:gdLst>
              <a:gd name="textAreaLeft" fmla="*/ 0 w 155520"/>
              <a:gd name="textAreaRight" fmla="*/ 155880 w 1555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5125"/>
          <p:cNvSpPr/>
          <p:nvPr/>
        </p:nvSpPr>
        <p:spPr>
          <a:xfrm>
            <a:off x="9191520" y="330516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5126"/>
          <p:cNvSpPr/>
          <p:nvPr/>
        </p:nvSpPr>
        <p:spPr>
          <a:xfrm>
            <a:off x="6515280" y="274644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5127"/>
          <p:cNvSpPr/>
          <p:nvPr/>
        </p:nvSpPr>
        <p:spPr>
          <a:xfrm>
            <a:off x="8126280" y="4359240"/>
            <a:ext cx="263520" cy="265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5128"/>
          <p:cNvSpPr/>
          <p:nvPr/>
        </p:nvSpPr>
        <p:spPr>
          <a:xfrm>
            <a:off x="8667720" y="4406760"/>
            <a:ext cx="273240" cy="16848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5129"/>
          <p:cNvSpPr/>
          <p:nvPr/>
        </p:nvSpPr>
        <p:spPr>
          <a:xfrm>
            <a:off x="1030320" y="492912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5130"/>
          <p:cNvSpPr/>
          <p:nvPr/>
        </p:nvSpPr>
        <p:spPr>
          <a:xfrm>
            <a:off x="1574640" y="491328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5131"/>
          <p:cNvSpPr/>
          <p:nvPr/>
        </p:nvSpPr>
        <p:spPr>
          <a:xfrm>
            <a:off x="4341960" y="4943520"/>
            <a:ext cx="196560" cy="19044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5132"/>
          <p:cNvSpPr/>
          <p:nvPr/>
        </p:nvSpPr>
        <p:spPr>
          <a:xfrm>
            <a:off x="4849920" y="490068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5133"/>
          <p:cNvSpPr/>
          <p:nvPr/>
        </p:nvSpPr>
        <p:spPr>
          <a:xfrm>
            <a:off x="1044720" y="2736720"/>
            <a:ext cx="244440" cy="241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5134"/>
          <p:cNvSpPr/>
          <p:nvPr/>
        </p:nvSpPr>
        <p:spPr>
          <a:xfrm>
            <a:off x="8137440" y="2211480"/>
            <a:ext cx="241560" cy="19512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5135"/>
          <p:cNvSpPr/>
          <p:nvPr/>
        </p:nvSpPr>
        <p:spPr>
          <a:xfrm>
            <a:off x="2131920" y="436896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5136"/>
          <p:cNvSpPr/>
          <p:nvPr/>
        </p:nvSpPr>
        <p:spPr>
          <a:xfrm>
            <a:off x="5938920" y="495288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5137"/>
          <p:cNvSpPr/>
          <p:nvPr/>
        </p:nvSpPr>
        <p:spPr>
          <a:xfrm>
            <a:off x="7039080" y="3822840"/>
            <a:ext cx="255600" cy="250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5138"/>
          <p:cNvSpPr/>
          <p:nvPr/>
        </p:nvSpPr>
        <p:spPr>
          <a:xfrm>
            <a:off x="2122560" y="4967280"/>
            <a:ext cx="271440" cy="135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5139"/>
          <p:cNvSpPr/>
          <p:nvPr/>
        </p:nvSpPr>
        <p:spPr>
          <a:xfrm>
            <a:off x="26668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5140"/>
          <p:cNvSpPr/>
          <p:nvPr/>
        </p:nvSpPr>
        <p:spPr>
          <a:xfrm>
            <a:off x="321156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5141"/>
          <p:cNvSpPr/>
          <p:nvPr/>
        </p:nvSpPr>
        <p:spPr>
          <a:xfrm>
            <a:off x="37576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5142"/>
          <p:cNvSpPr/>
          <p:nvPr/>
        </p:nvSpPr>
        <p:spPr>
          <a:xfrm>
            <a:off x="5938920" y="170352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hape 5143"/>
          <p:cNvSpPr/>
          <p:nvPr/>
        </p:nvSpPr>
        <p:spPr>
          <a:xfrm>
            <a:off x="6485040" y="491976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hape 5144"/>
          <p:cNvSpPr/>
          <p:nvPr/>
        </p:nvSpPr>
        <p:spPr>
          <a:xfrm>
            <a:off x="7577280" y="382752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hape 5145"/>
          <p:cNvSpPr/>
          <p:nvPr/>
        </p:nvSpPr>
        <p:spPr>
          <a:xfrm>
            <a:off x="3211560" y="44067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hape 5146"/>
          <p:cNvSpPr/>
          <p:nvPr/>
        </p:nvSpPr>
        <p:spPr>
          <a:xfrm>
            <a:off x="5938920" y="3857760"/>
            <a:ext cx="274680" cy="17604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hape 5147"/>
          <p:cNvSpPr/>
          <p:nvPr/>
        </p:nvSpPr>
        <p:spPr>
          <a:xfrm>
            <a:off x="8121600" y="3297240"/>
            <a:ext cx="274680" cy="209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hape 5148"/>
          <p:cNvSpPr/>
          <p:nvPr/>
        </p:nvSpPr>
        <p:spPr>
          <a:xfrm>
            <a:off x="2122560" y="3276720"/>
            <a:ext cx="271440" cy="245880"/>
          </a:xfrm>
          <a:custGeom>
            <a:avLst/>
            <a:gdLst>
              <a:gd name="textAreaLeft" fmla="*/ 0 w 271440"/>
              <a:gd name="textAreaRight" fmla="*/ 271800 w 2714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hape 5149"/>
          <p:cNvSpPr/>
          <p:nvPr/>
        </p:nvSpPr>
        <p:spPr>
          <a:xfrm>
            <a:off x="7059600" y="326700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hape 5150"/>
          <p:cNvSpPr/>
          <p:nvPr/>
        </p:nvSpPr>
        <p:spPr>
          <a:xfrm>
            <a:off x="1030320" y="439740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hape 5151"/>
          <p:cNvSpPr/>
          <p:nvPr/>
        </p:nvSpPr>
        <p:spPr>
          <a:xfrm>
            <a:off x="1574640" y="4387680"/>
            <a:ext cx="279720" cy="211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hape 5152"/>
          <p:cNvSpPr/>
          <p:nvPr/>
        </p:nvSpPr>
        <p:spPr>
          <a:xfrm>
            <a:off x="4888080" y="162720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hape 5153"/>
          <p:cNvSpPr/>
          <p:nvPr/>
        </p:nvSpPr>
        <p:spPr>
          <a:xfrm>
            <a:off x="7029360" y="4978440"/>
            <a:ext cx="274680" cy="12060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hape 5154"/>
          <p:cNvSpPr/>
          <p:nvPr/>
        </p:nvSpPr>
        <p:spPr>
          <a:xfrm>
            <a:off x="5394240" y="490068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hape 5155"/>
          <p:cNvSpPr/>
          <p:nvPr/>
        </p:nvSpPr>
        <p:spPr>
          <a:xfrm>
            <a:off x="8121600" y="4943520"/>
            <a:ext cx="274680" cy="19044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hape 5156"/>
          <p:cNvSpPr/>
          <p:nvPr/>
        </p:nvSpPr>
        <p:spPr>
          <a:xfrm>
            <a:off x="3767040" y="166068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hape 5157"/>
          <p:cNvSpPr/>
          <p:nvPr/>
        </p:nvSpPr>
        <p:spPr>
          <a:xfrm>
            <a:off x="8704440" y="491976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hape 5158"/>
          <p:cNvSpPr/>
          <p:nvPr/>
        </p:nvSpPr>
        <p:spPr>
          <a:xfrm>
            <a:off x="1060560" y="382284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hape 5159"/>
          <p:cNvSpPr/>
          <p:nvPr/>
        </p:nvSpPr>
        <p:spPr>
          <a:xfrm>
            <a:off x="7586640" y="326700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hape 5160"/>
          <p:cNvSpPr/>
          <p:nvPr/>
        </p:nvSpPr>
        <p:spPr>
          <a:xfrm>
            <a:off x="2695680" y="435276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hape 5161"/>
          <p:cNvSpPr/>
          <p:nvPr/>
        </p:nvSpPr>
        <p:spPr>
          <a:xfrm>
            <a:off x="4317840" y="327348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hape 5162"/>
          <p:cNvSpPr/>
          <p:nvPr/>
        </p:nvSpPr>
        <p:spPr>
          <a:xfrm>
            <a:off x="3767040" y="437184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hape 5163"/>
          <p:cNvSpPr/>
          <p:nvPr/>
        </p:nvSpPr>
        <p:spPr>
          <a:xfrm>
            <a:off x="4327560" y="4371840"/>
            <a:ext cx="225360" cy="24156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hape 5164"/>
          <p:cNvSpPr/>
          <p:nvPr/>
        </p:nvSpPr>
        <p:spPr>
          <a:xfrm>
            <a:off x="7029360" y="436896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hape 5165"/>
          <p:cNvSpPr/>
          <p:nvPr/>
        </p:nvSpPr>
        <p:spPr>
          <a:xfrm>
            <a:off x="6543720" y="3811680"/>
            <a:ext cx="155520" cy="264960"/>
          </a:xfrm>
          <a:custGeom>
            <a:avLst/>
            <a:gdLst>
              <a:gd name="textAreaLeft" fmla="*/ 0 w 155520"/>
              <a:gd name="textAreaRight" fmla="*/ 155880 w 155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hape 5166"/>
          <p:cNvSpPr/>
          <p:nvPr/>
        </p:nvSpPr>
        <p:spPr>
          <a:xfrm>
            <a:off x="4862520" y="4387680"/>
            <a:ext cx="245880" cy="20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hape 5167"/>
          <p:cNvSpPr/>
          <p:nvPr/>
        </p:nvSpPr>
        <p:spPr>
          <a:xfrm>
            <a:off x="5954760" y="4359240"/>
            <a:ext cx="249120" cy="254160"/>
          </a:xfrm>
          <a:custGeom>
            <a:avLst/>
            <a:gdLst>
              <a:gd name="textAreaLeft" fmla="*/ 0 w 249120"/>
              <a:gd name="textAreaRight" fmla="*/ 249480 w 2491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hape 5168"/>
          <p:cNvSpPr/>
          <p:nvPr/>
        </p:nvSpPr>
        <p:spPr>
          <a:xfrm>
            <a:off x="6480000" y="435276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hape 5169"/>
          <p:cNvSpPr/>
          <p:nvPr/>
        </p:nvSpPr>
        <p:spPr>
          <a:xfrm>
            <a:off x="7577280" y="436896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hape 5170"/>
          <p:cNvSpPr/>
          <p:nvPr/>
        </p:nvSpPr>
        <p:spPr>
          <a:xfrm>
            <a:off x="702936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hape 5171"/>
          <p:cNvSpPr/>
          <p:nvPr/>
        </p:nvSpPr>
        <p:spPr>
          <a:xfrm>
            <a:off x="5437080" y="437832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hape 5172"/>
          <p:cNvSpPr/>
          <p:nvPr/>
        </p:nvSpPr>
        <p:spPr>
          <a:xfrm>
            <a:off x="10829880" y="3832200"/>
            <a:ext cx="273240" cy="262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hape 5173"/>
          <p:cNvSpPr/>
          <p:nvPr/>
        </p:nvSpPr>
        <p:spPr>
          <a:xfrm>
            <a:off x="9229680" y="3841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hape 5174"/>
          <p:cNvSpPr/>
          <p:nvPr/>
        </p:nvSpPr>
        <p:spPr>
          <a:xfrm>
            <a:off x="10282320" y="387036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hape 5175"/>
          <p:cNvSpPr/>
          <p:nvPr/>
        </p:nvSpPr>
        <p:spPr>
          <a:xfrm>
            <a:off x="9737640" y="382572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hape 5176"/>
          <p:cNvSpPr/>
          <p:nvPr/>
        </p:nvSpPr>
        <p:spPr>
          <a:xfrm>
            <a:off x="10842480" y="1673280"/>
            <a:ext cx="244800" cy="218880"/>
          </a:xfrm>
          <a:custGeom>
            <a:avLst/>
            <a:gdLst>
              <a:gd name="textAreaLeft" fmla="*/ 0 w 244800"/>
              <a:gd name="textAreaRight" fmla="*/ 245160 w 244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hape 5177"/>
          <p:cNvSpPr/>
          <p:nvPr/>
        </p:nvSpPr>
        <p:spPr>
          <a:xfrm>
            <a:off x="10298160" y="165888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hape 5178"/>
          <p:cNvSpPr/>
          <p:nvPr/>
        </p:nvSpPr>
        <p:spPr>
          <a:xfrm>
            <a:off x="9777240" y="1644480"/>
            <a:ext cx="195480" cy="273240"/>
          </a:xfrm>
          <a:custGeom>
            <a:avLst/>
            <a:gdLst>
              <a:gd name="textAreaLeft" fmla="*/ 0 w 195480"/>
              <a:gd name="textAreaRight" fmla="*/ 195840 w 1954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hape 5179"/>
          <p:cNvSpPr/>
          <p:nvPr/>
        </p:nvSpPr>
        <p:spPr>
          <a:xfrm>
            <a:off x="7615080" y="490068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hape 5180"/>
          <p:cNvSpPr/>
          <p:nvPr/>
        </p:nvSpPr>
        <p:spPr>
          <a:xfrm>
            <a:off x="10829880" y="334008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hape 5181"/>
          <p:cNvSpPr/>
          <p:nvPr/>
        </p:nvSpPr>
        <p:spPr>
          <a:xfrm>
            <a:off x="8704440" y="326376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hape 5182"/>
          <p:cNvSpPr/>
          <p:nvPr/>
        </p:nvSpPr>
        <p:spPr>
          <a:xfrm>
            <a:off x="10306080" y="435924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hape 5183"/>
          <p:cNvSpPr/>
          <p:nvPr/>
        </p:nvSpPr>
        <p:spPr>
          <a:xfrm>
            <a:off x="9813960" y="4359240"/>
            <a:ext cx="144360" cy="27468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hape 5184"/>
          <p:cNvSpPr/>
          <p:nvPr/>
        </p:nvSpPr>
        <p:spPr>
          <a:xfrm>
            <a:off x="9191520" y="1716120"/>
            <a:ext cx="274680" cy="12852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hape 5185"/>
          <p:cNvSpPr/>
          <p:nvPr/>
        </p:nvSpPr>
        <p:spPr>
          <a:xfrm>
            <a:off x="10829880" y="2779560"/>
            <a:ext cx="273240" cy="18756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hape 5186"/>
          <p:cNvSpPr/>
          <p:nvPr/>
        </p:nvSpPr>
        <p:spPr>
          <a:xfrm>
            <a:off x="8131320" y="38275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hape 5187"/>
          <p:cNvSpPr/>
          <p:nvPr/>
        </p:nvSpPr>
        <p:spPr>
          <a:xfrm>
            <a:off x="5994360" y="21416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hape 5188"/>
          <p:cNvSpPr/>
          <p:nvPr/>
        </p:nvSpPr>
        <p:spPr>
          <a:xfrm>
            <a:off x="10850400" y="487692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hape 5189"/>
          <p:cNvSpPr/>
          <p:nvPr/>
        </p:nvSpPr>
        <p:spPr>
          <a:xfrm>
            <a:off x="9244080" y="49989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hape 5190"/>
          <p:cNvSpPr/>
          <p:nvPr/>
        </p:nvSpPr>
        <p:spPr>
          <a:xfrm>
            <a:off x="10790280" y="439740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hape 5191"/>
          <p:cNvSpPr/>
          <p:nvPr/>
        </p:nvSpPr>
        <p:spPr>
          <a:xfrm>
            <a:off x="9191520" y="221940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hape 5192"/>
          <p:cNvSpPr/>
          <p:nvPr/>
        </p:nvSpPr>
        <p:spPr>
          <a:xfrm>
            <a:off x="1604880" y="272268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hape 5193"/>
          <p:cNvSpPr/>
          <p:nvPr/>
        </p:nvSpPr>
        <p:spPr>
          <a:xfrm>
            <a:off x="2151000" y="273204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8"/>
          <p:cNvSpPr/>
          <p:nvPr/>
        </p:nvSpPr>
        <p:spPr>
          <a:xfrm>
            <a:off x="7588080" y="1657440"/>
            <a:ext cx="40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21"/>
          <p:cNvSpPr/>
          <p:nvPr/>
        </p:nvSpPr>
        <p:spPr>
          <a:xfrm>
            <a:off x="7588080" y="3673440"/>
            <a:ext cx="3660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23"/>
          <p:cNvSpPr/>
          <p:nvPr/>
        </p:nvSpPr>
        <p:spPr>
          <a:xfrm>
            <a:off x="7572240" y="4896000"/>
            <a:ext cx="3660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29"/>
          <p:cNvSpPr/>
          <p:nvPr/>
        </p:nvSpPr>
        <p:spPr>
          <a:xfrm>
            <a:off x="7572240" y="2311560"/>
            <a:ext cx="40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WORL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31"/>
          <p:cNvSpPr/>
          <p:nvPr/>
        </p:nvSpPr>
        <p:spPr>
          <a:xfrm rot="18900000">
            <a:off x="6240600" y="298080"/>
            <a:ext cx="12204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32"/>
          <p:cNvSpPr/>
          <p:nvPr/>
        </p:nvSpPr>
        <p:spPr>
          <a:xfrm>
            <a:off x="1027080" y="722160"/>
            <a:ext cx="344520" cy="17622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3"/>
          <p:cNvSpPr/>
          <p:nvPr/>
        </p:nvSpPr>
        <p:spPr>
          <a:xfrm rot="18000000">
            <a:off x="1398600" y="4615920"/>
            <a:ext cx="157320" cy="17604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6435720" y="946080"/>
            <a:ext cx="157320" cy="17622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TextBox 35" descr=""/>
          <p:cNvPicPr/>
          <p:nvPr/>
        </p:nvPicPr>
        <p:blipFill>
          <a:blip r:embed="rId1"/>
          <a:stretch/>
        </p:blipFill>
        <p:spPr>
          <a:xfrm>
            <a:off x="10710720" y="139680"/>
            <a:ext cx="1932120" cy="19512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1142640" y="1146240"/>
            <a:ext cx="53341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35"/>
          <p:cNvSpPr/>
          <p:nvPr/>
        </p:nvSpPr>
        <p:spPr>
          <a:xfrm rot="16200000">
            <a:off x="-1517760" y="3177720"/>
            <a:ext cx="487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WELCO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36"/>
          <p:cNvSpPr/>
          <p:nvPr/>
        </p:nvSpPr>
        <p:spPr>
          <a:xfrm>
            <a:off x="2276640" y="4095720"/>
            <a:ext cx="30636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7"/>
          <p:cNvSpPr/>
          <p:nvPr/>
        </p:nvSpPr>
        <p:spPr>
          <a:xfrm>
            <a:off x="2260440" y="5318280"/>
            <a:ext cx="3063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TextBox 38" descr=""/>
          <p:cNvPicPr/>
          <p:nvPr/>
        </p:nvPicPr>
        <p:blipFill>
          <a:blip r:embed="rId1"/>
          <a:stretch/>
        </p:blipFill>
        <p:spPr>
          <a:xfrm>
            <a:off x="987480" y="743040"/>
            <a:ext cx="1285920" cy="556092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41"/>
          <p:cNvSpPr/>
          <p:nvPr/>
        </p:nvSpPr>
        <p:spPr>
          <a:xfrm rot="2359800">
            <a:off x="6125760" y="138240"/>
            <a:ext cx="33516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42"/>
          <p:cNvSpPr/>
          <p:nvPr/>
        </p:nvSpPr>
        <p:spPr>
          <a:xfrm>
            <a:off x="5923080" y="743040"/>
            <a:ext cx="12204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3"/>
          <p:cNvSpPr/>
          <p:nvPr/>
        </p:nvSpPr>
        <p:spPr>
          <a:xfrm rot="16200000">
            <a:off x="10714680" y="4786920"/>
            <a:ext cx="12240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TextBox 44" descr=""/>
          <p:cNvPicPr/>
          <p:nvPr/>
        </p:nvPicPr>
        <p:blipFill>
          <a:blip r:embed="rId2"/>
          <a:stretch/>
        </p:blipFill>
        <p:spPr>
          <a:xfrm>
            <a:off x="3754440" y="1542960"/>
            <a:ext cx="1933560" cy="19558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45"/>
          <p:cNvSpPr/>
          <p:nvPr/>
        </p:nvSpPr>
        <p:spPr>
          <a:xfrm>
            <a:off x="11077560" y="3787920"/>
            <a:ext cx="18576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5956200" y="743040"/>
            <a:ext cx="511488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2"/>
          <p:cNvSpPr/>
          <p:nvPr/>
        </p:nvSpPr>
        <p:spPr>
          <a:xfrm>
            <a:off x="6381720" y="3378240"/>
            <a:ext cx="3660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3"/>
          <p:cNvSpPr/>
          <p:nvPr/>
        </p:nvSpPr>
        <p:spPr>
          <a:xfrm>
            <a:off x="6365880" y="4600440"/>
            <a:ext cx="3660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34"/>
          <p:cNvSpPr/>
          <p:nvPr/>
        </p:nvSpPr>
        <p:spPr>
          <a:xfrm>
            <a:off x="6365880" y="1555920"/>
            <a:ext cx="47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LAPTO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35"/>
          <p:cNvSpPr/>
          <p:nvPr/>
        </p:nvSpPr>
        <p:spPr>
          <a:xfrm>
            <a:off x="6365880" y="2075040"/>
            <a:ext cx="55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MOCKU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TextBox 17" descr=""/>
          <p:cNvPicPr/>
          <p:nvPr/>
        </p:nvPicPr>
        <p:blipFill>
          <a:blip r:embed="rId1"/>
          <a:stretch/>
        </p:blipFill>
        <p:spPr>
          <a:xfrm>
            <a:off x="1219320" y="2425680"/>
            <a:ext cx="1925640" cy="1951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-333720" y="1703160"/>
            <a:ext cx="50338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: Rounded Corners 8"/>
          <p:cNvSpPr/>
          <p:nvPr/>
        </p:nvSpPr>
        <p:spPr>
          <a:xfrm flipV="1" rot="10800000">
            <a:off x="958320" y="1670040"/>
            <a:ext cx="2481480" cy="4286160"/>
          </a:xfrm>
          <a:custGeom>
            <a:avLst/>
            <a:gdLst>
              <a:gd name="textAreaLeft" fmla="*/ 7920 w 2481480"/>
              <a:gd name="textAreaRight" fmla="*/ 2473560 w 248148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07">
                <a:moveTo>
                  <a:pt x="243" y="0"/>
                </a:moveTo>
                <a:arcTo wR="243" hR="243" stAng="16200000" swAng="-5400000"/>
                <a:lnTo>
                  <a:pt x="0" y="37064"/>
                </a:lnTo>
                <a:arcTo wR="243" hR="243" stAng="10800000" swAng="-5400000"/>
                <a:lnTo>
                  <a:pt x="21357" y="37307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1224000" y="204480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617840" y="2590920"/>
            <a:ext cx="11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122724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1384200" y="3639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traight Connector 6"/>
          <p:cNvSpPr/>
          <p:nvPr/>
        </p:nvSpPr>
        <p:spPr>
          <a:xfrm>
            <a:off x="1260360" y="3530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1384200" y="404820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traight Connector 8"/>
          <p:cNvSpPr/>
          <p:nvPr/>
        </p:nvSpPr>
        <p:spPr>
          <a:xfrm>
            <a:off x="1260360" y="393696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1384200" y="445788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traight Connector 10"/>
          <p:cNvSpPr/>
          <p:nvPr/>
        </p:nvSpPr>
        <p:spPr>
          <a:xfrm>
            <a:off x="1260360" y="434664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1384200" y="4863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traight Connector 12"/>
          <p:cNvSpPr/>
          <p:nvPr/>
        </p:nvSpPr>
        <p:spPr>
          <a:xfrm>
            <a:off x="1260360" y="4754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traight Connector 13"/>
          <p:cNvSpPr/>
          <p:nvPr/>
        </p:nvSpPr>
        <p:spPr>
          <a:xfrm>
            <a:off x="1260360" y="514368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: Rounded Corners 28"/>
          <p:cNvSpPr/>
          <p:nvPr/>
        </p:nvSpPr>
        <p:spPr>
          <a:xfrm>
            <a:off x="1459080" y="5362560"/>
            <a:ext cx="148248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: Rounded Corners 8"/>
          <p:cNvSpPr/>
          <p:nvPr/>
        </p:nvSpPr>
        <p:spPr>
          <a:xfrm flipV="1" rot="10800000">
            <a:off x="3575160" y="1670040"/>
            <a:ext cx="2481120" cy="4286160"/>
          </a:xfrm>
          <a:custGeom>
            <a:avLst/>
            <a:gdLst>
              <a:gd name="textAreaLeft" fmla="*/ 7920 w 2481120"/>
              <a:gd name="textAreaRight" fmla="*/ 2473200 w 248112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12">
                <a:moveTo>
                  <a:pt x="243" y="0"/>
                </a:moveTo>
                <a:arcTo wR="243" hR="243" stAng="16200000" swAng="-5400000"/>
                <a:lnTo>
                  <a:pt x="0" y="37069"/>
                </a:lnTo>
                <a:arcTo wR="243" hR="243" stAng="10800000" swAng="-5400000"/>
                <a:lnTo>
                  <a:pt x="21357" y="37312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16"/>
          <p:cNvSpPr/>
          <p:nvPr/>
        </p:nvSpPr>
        <p:spPr>
          <a:xfrm>
            <a:off x="3840120" y="2044800"/>
            <a:ext cx="19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983040" y="2590920"/>
            <a:ext cx="16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18"/>
          <p:cNvSpPr/>
          <p:nvPr/>
        </p:nvSpPr>
        <p:spPr>
          <a:xfrm>
            <a:off x="384336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19"/>
          <p:cNvSpPr/>
          <p:nvPr/>
        </p:nvSpPr>
        <p:spPr>
          <a:xfrm>
            <a:off x="4000680" y="363996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traight Connector 20"/>
          <p:cNvSpPr/>
          <p:nvPr/>
        </p:nvSpPr>
        <p:spPr>
          <a:xfrm>
            <a:off x="3875040" y="353052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21"/>
          <p:cNvSpPr/>
          <p:nvPr/>
        </p:nvSpPr>
        <p:spPr>
          <a:xfrm>
            <a:off x="4000680" y="404820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traight Connector 22"/>
          <p:cNvSpPr/>
          <p:nvPr/>
        </p:nvSpPr>
        <p:spPr>
          <a:xfrm>
            <a:off x="3875040" y="393696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23"/>
          <p:cNvSpPr/>
          <p:nvPr/>
        </p:nvSpPr>
        <p:spPr>
          <a:xfrm>
            <a:off x="4000680" y="445788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traight Connector 24"/>
          <p:cNvSpPr/>
          <p:nvPr/>
        </p:nvSpPr>
        <p:spPr>
          <a:xfrm>
            <a:off x="3875040" y="434664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4000680" y="486396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traight Connector 26"/>
          <p:cNvSpPr/>
          <p:nvPr/>
        </p:nvSpPr>
        <p:spPr>
          <a:xfrm>
            <a:off x="3875040" y="475452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traight Connector 27"/>
          <p:cNvSpPr/>
          <p:nvPr/>
        </p:nvSpPr>
        <p:spPr>
          <a:xfrm>
            <a:off x="3875040" y="514368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: Rounded Corners 28"/>
          <p:cNvSpPr/>
          <p:nvPr/>
        </p:nvSpPr>
        <p:spPr>
          <a:xfrm>
            <a:off x="4075200" y="5362560"/>
            <a:ext cx="148104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: Rounded Corners 8"/>
          <p:cNvSpPr/>
          <p:nvPr/>
        </p:nvSpPr>
        <p:spPr>
          <a:xfrm flipV="1" rot="10800000">
            <a:off x="6159600" y="1670040"/>
            <a:ext cx="2481120" cy="4286160"/>
          </a:xfrm>
          <a:custGeom>
            <a:avLst/>
            <a:gdLst>
              <a:gd name="textAreaLeft" fmla="*/ 7920 w 2481120"/>
              <a:gd name="textAreaRight" fmla="*/ 2473200 w 248112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12">
                <a:moveTo>
                  <a:pt x="243" y="0"/>
                </a:moveTo>
                <a:arcTo wR="243" hR="243" stAng="16200000" swAng="-5400000"/>
                <a:lnTo>
                  <a:pt x="0" y="37069"/>
                </a:lnTo>
                <a:arcTo wR="243" hR="243" stAng="10800000" swAng="-5400000"/>
                <a:lnTo>
                  <a:pt x="21357" y="37312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30"/>
          <p:cNvSpPr/>
          <p:nvPr/>
        </p:nvSpPr>
        <p:spPr>
          <a:xfrm>
            <a:off x="6424560" y="204480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31"/>
          <p:cNvSpPr/>
          <p:nvPr/>
        </p:nvSpPr>
        <p:spPr>
          <a:xfrm>
            <a:off x="6622920" y="2590920"/>
            <a:ext cx="15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32"/>
          <p:cNvSpPr/>
          <p:nvPr/>
        </p:nvSpPr>
        <p:spPr>
          <a:xfrm>
            <a:off x="642780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33"/>
          <p:cNvSpPr/>
          <p:nvPr/>
        </p:nvSpPr>
        <p:spPr>
          <a:xfrm>
            <a:off x="6585120" y="3639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traight Connector 34"/>
          <p:cNvSpPr/>
          <p:nvPr/>
        </p:nvSpPr>
        <p:spPr>
          <a:xfrm>
            <a:off x="6461280" y="3530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35"/>
          <p:cNvSpPr/>
          <p:nvPr/>
        </p:nvSpPr>
        <p:spPr>
          <a:xfrm>
            <a:off x="6585120" y="404820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36"/>
          <p:cNvSpPr/>
          <p:nvPr/>
        </p:nvSpPr>
        <p:spPr>
          <a:xfrm>
            <a:off x="6461280" y="393696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37"/>
          <p:cNvSpPr/>
          <p:nvPr/>
        </p:nvSpPr>
        <p:spPr>
          <a:xfrm>
            <a:off x="6585120" y="445788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traight Connector 38"/>
          <p:cNvSpPr/>
          <p:nvPr/>
        </p:nvSpPr>
        <p:spPr>
          <a:xfrm>
            <a:off x="6461280" y="434664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39"/>
          <p:cNvSpPr/>
          <p:nvPr/>
        </p:nvSpPr>
        <p:spPr>
          <a:xfrm>
            <a:off x="6585120" y="4863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traight Connector 40"/>
          <p:cNvSpPr/>
          <p:nvPr/>
        </p:nvSpPr>
        <p:spPr>
          <a:xfrm>
            <a:off x="6461280" y="4754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traight Connector 41"/>
          <p:cNvSpPr/>
          <p:nvPr/>
        </p:nvSpPr>
        <p:spPr>
          <a:xfrm>
            <a:off x="6461280" y="514368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: Rounded Corners 28"/>
          <p:cNvSpPr/>
          <p:nvPr/>
        </p:nvSpPr>
        <p:spPr>
          <a:xfrm>
            <a:off x="6659640" y="5362560"/>
            <a:ext cx="148248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: Rounded Corners 8"/>
          <p:cNvSpPr/>
          <p:nvPr/>
        </p:nvSpPr>
        <p:spPr>
          <a:xfrm flipV="1" rot="10800000">
            <a:off x="8776800" y="1670040"/>
            <a:ext cx="2481480" cy="4286160"/>
          </a:xfrm>
          <a:custGeom>
            <a:avLst/>
            <a:gdLst>
              <a:gd name="textAreaLeft" fmla="*/ 7920 w 2481480"/>
              <a:gd name="textAreaRight" fmla="*/ 2473560 w 248148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07">
                <a:moveTo>
                  <a:pt x="243" y="0"/>
                </a:moveTo>
                <a:arcTo wR="243" hR="243" stAng="16200000" swAng="-5400000"/>
                <a:lnTo>
                  <a:pt x="0" y="37064"/>
                </a:lnTo>
                <a:arcTo wR="243" hR="243" stAng="10800000" swAng="-5400000"/>
                <a:lnTo>
                  <a:pt x="21357" y="37307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44"/>
          <p:cNvSpPr/>
          <p:nvPr/>
        </p:nvSpPr>
        <p:spPr>
          <a:xfrm>
            <a:off x="9042480" y="2044800"/>
            <a:ext cx="19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45"/>
          <p:cNvSpPr/>
          <p:nvPr/>
        </p:nvSpPr>
        <p:spPr>
          <a:xfrm>
            <a:off x="9139320" y="259092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46"/>
          <p:cNvSpPr/>
          <p:nvPr/>
        </p:nvSpPr>
        <p:spPr>
          <a:xfrm>
            <a:off x="904572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47"/>
          <p:cNvSpPr/>
          <p:nvPr/>
        </p:nvSpPr>
        <p:spPr>
          <a:xfrm>
            <a:off x="9202680" y="363996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48"/>
          <p:cNvSpPr/>
          <p:nvPr/>
        </p:nvSpPr>
        <p:spPr>
          <a:xfrm>
            <a:off x="9077400" y="353052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49"/>
          <p:cNvSpPr/>
          <p:nvPr/>
        </p:nvSpPr>
        <p:spPr>
          <a:xfrm>
            <a:off x="9202680" y="404820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50"/>
          <p:cNvSpPr/>
          <p:nvPr/>
        </p:nvSpPr>
        <p:spPr>
          <a:xfrm>
            <a:off x="9077400" y="393696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51"/>
          <p:cNvSpPr/>
          <p:nvPr/>
        </p:nvSpPr>
        <p:spPr>
          <a:xfrm>
            <a:off x="9202680" y="445788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52"/>
          <p:cNvSpPr/>
          <p:nvPr/>
        </p:nvSpPr>
        <p:spPr>
          <a:xfrm>
            <a:off x="9077400" y="434664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53"/>
          <p:cNvSpPr/>
          <p:nvPr/>
        </p:nvSpPr>
        <p:spPr>
          <a:xfrm>
            <a:off x="9202680" y="486396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54"/>
          <p:cNvSpPr/>
          <p:nvPr/>
        </p:nvSpPr>
        <p:spPr>
          <a:xfrm>
            <a:off x="9077400" y="475452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55"/>
          <p:cNvSpPr/>
          <p:nvPr/>
        </p:nvSpPr>
        <p:spPr>
          <a:xfrm>
            <a:off x="9077400" y="514368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: Rounded Corners 28"/>
          <p:cNvSpPr/>
          <p:nvPr/>
        </p:nvSpPr>
        <p:spPr>
          <a:xfrm>
            <a:off x="9277200" y="5362560"/>
            <a:ext cx="148140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57"/>
          <p:cNvSpPr/>
          <p:nvPr/>
        </p:nvSpPr>
        <p:spPr>
          <a:xfrm>
            <a:off x="2676600" y="679320"/>
            <a:ext cx="688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38"/>
                </a:solidFill>
                <a:latin typeface="Monument Extended"/>
              </a:rPr>
              <a:t>PACKAGE LI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Chart 2" descr=""/>
          <p:cNvPicPr/>
          <p:nvPr/>
        </p:nvPicPr>
        <p:blipFill>
          <a:blip r:embed="rId1"/>
          <a:stretch/>
        </p:blipFill>
        <p:spPr>
          <a:xfrm>
            <a:off x="4062240" y="3141720"/>
            <a:ext cx="6540840" cy="286524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26"/>
          <p:cNvSpPr/>
          <p:nvPr/>
        </p:nvSpPr>
        <p:spPr>
          <a:xfrm>
            <a:off x="4129200" y="2265480"/>
            <a:ext cx="6831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27"/>
          <p:cNvSpPr/>
          <p:nvPr/>
        </p:nvSpPr>
        <p:spPr>
          <a:xfrm>
            <a:off x="4113360" y="1184400"/>
            <a:ext cx="683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FLASH SA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28"/>
          <p:cNvSpPr/>
          <p:nvPr/>
        </p:nvSpPr>
        <p:spPr>
          <a:xfrm rot="2700000">
            <a:off x="3085560" y="4885920"/>
            <a:ext cx="146160" cy="16830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29"/>
          <p:cNvSpPr/>
          <p:nvPr/>
        </p:nvSpPr>
        <p:spPr>
          <a:xfrm rot="5400000">
            <a:off x="2618640" y="5137920"/>
            <a:ext cx="46080" cy="168264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0"/>
          <p:cNvSpPr/>
          <p:nvPr/>
        </p:nvSpPr>
        <p:spPr>
          <a:xfrm rot="5400000">
            <a:off x="2871720" y="45720"/>
            <a:ext cx="158760" cy="171144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-360" y="901800"/>
            <a:ext cx="348300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1"/>
          <p:cNvGrpSpPr/>
          <p:nvPr/>
        </p:nvGrpSpPr>
        <p:grpSpPr>
          <a:xfrm>
            <a:off x="1128600" y="3362400"/>
            <a:ext cx="2806920" cy="590400"/>
            <a:chOff x="1128600" y="3362400"/>
            <a:chExt cx="2806920" cy="590400"/>
          </a:xfrm>
        </p:grpSpPr>
        <p:sp>
          <p:nvSpPr>
            <p:cNvPr id="445" name="Rectangle 12"/>
            <p:cNvSpPr/>
            <p:nvPr/>
          </p:nvSpPr>
          <p:spPr>
            <a:xfrm>
              <a:off x="334584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Rectangle 10"/>
            <p:cNvSpPr/>
            <p:nvPr/>
          </p:nvSpPr>
          <p:spPr>
            <a:xfrm>
              <a:off x="260676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Rectangle 8"/>
            <p:cNvSpPr/>
            <p:nvPr/>
          </p:nvSpPr>
          <p:spPr>
            <a:xfrm>
              <a:off x="186768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Rectangle 6"/>
            <p:cNvSpPr/>
            <p:nvPr/>
          </p:nvSpPr>
          <p:spPr>
            <a:xfrm>
              <a:off x="112860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Shape 5015"/>
          <p:cNvSpPr/>
          <p:nvPr/>
        </p:nvSpPr>
        <p:spPr>
          <a:xfrm>
            <a:off x="3525840" y="3538440"/>
            <a:ext cx="236520" cy="241560"/>
          </a:xfrm>
          <a:custGeom>
            <a:avLst/>
            <a:gdLst>
              <a:gd name="textAreaLeft" fmla="*/ 0 w 236520"/>
              <a:gd name="textAreaRight" fmla="*/ 236880 w 23652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83261" y="80788"/>
                </a:moveTo>
                <a:lnTo>
                  <a:pt x="83261" y="80788"/>
                </a:lnTo>
                <a:cubicBezTo>
                  <a:pt x="80266" y="83546"/>
                  <a:pt x="77470" y="86305"/>
                  <a:pt x="73277" y="87684"/>
                </a:cubicBezTo>
                <a:cubicBezTo>
                  <a:pt x="70482" y="89064"/>
                  <a:pt x="64891" y="89064"/>
                  <a:pt x="59101" y="89064"/>
                </a:cubicBezTo>
                <a:cubicBezTo>
                  <a:pt x="53510" y="89064"/>
                  <a:pt x="47920" y="89064"/>
                  <a:pt x="43727" y="86305"/>
                </a:cubicBezTo>
                <a:cubicBezTo>
                  <a:pt x="40732" y="84926"/>
                  <a:pt x="37936" y="82167"/>
                  <a:pt x="36539" y="80788"/>
                </a:cubicBezTo>
                <a:cubicBezTo>
                  <a:pt x="33743" y="78029"/>
                  <a:pt x="33743" y="75270"/>
                  <a:pt x="33743" y="72315"/>
                </a:cubicBezTo>
                <a:cubicBezTo>
                  <a:pt x="33743" y="70935"/>
                  <a:pt x="33743" y="69556"/>
                  <a:pt x="35141" y="68177"/>
                </a:cubicBezTo>
                <a:cubicBezTo>
                  <a:pt x="36539" y="66798"/>
                  <a:pt x="37936" y="66798"/>
                  <a:pt x="39334" y="66798"/>
                </a:cubicBezTo>
                <a:cubicBezTo>
                  <a:pt x="40732" y="66798"/>
                  <a:pt x="42129" y="66798"/>
                  <a:pt x="43727" y="68177"/>
                </a:cubicBezTo>
                <a:cubicBezTo>
                  <a:pt x="45124" y="68177"/>
                  <a:pt x="45124" y="69556"/>
                  <a:pt x="46522" y="72315"/>
                </a:cubicBezTo>
                <a:cubicBezTo>
                  <a:pt x="47920" y="73891"/>
                  <a:pt x="47920" y="75270"/>
                  <a:pt x="49317" y="76650"/>
                </a:cubicBezTo>
                <a:cubicBezTo>
                  <a:pt x="49317" y="76650"/>
                  <a:pt x="50715" y="78029"/>
                  <a:pt x="52113" y="79408"/>
                </a:cubicBezTo>
                <a:cubicBezTo>
                  <a:pt x="54908" y="79408"/>
                  <a:pt x="56306" y="79408"/>
                  <a:pt x="59101" y="79408"/>
                </a:cubicBezTo>
                <a:cubicBezTo>
                  <a:pt x="63494" y="79408"/>
                  <a:pt x="66289" y="79408"/>
                  <a:pt x="69084" y="78029"/>
                </a:cubicBezTo>
                <a:cubicBezTo>
                  <a:pt x="70482" y="76650"/>
                  <a:pt x="71880" y="75270"/>
                  <a:pt x="71880" y="72315"/>
                </a:cubicBezTo>
                <a:cubicBezTo>
                  <a:pt x="71880" y="70935"/>
                  <a:pt x="70482" y="69556"/>
                  <a:pt x="70482" y="68177"/>
                </a:cubicBezTo>
                <a:cubicBezTo>
                  <a:pt x="69084" y="66798"/>
                  <a:pt x="67687" y="66798"/>
                  <a:pt x="64891" y="65418"/>
                </a:cubicBezTo>
                <a:cubicBezTo>
                  <a:pt x="63494" y="65418"/>
                  <a:pt x="60499" y="64039"/>
                  <a:pt x="56306" y="64039"/>
                </a:cubicBezTo>
                <a:cubicBezTo>
                  <a:pt x="52113" y="62660"/>
                  <a:pt x="47920" y="61280"/>
                  <a:pt x="45124" y="59901"/>
                </a:cubicBezTo>
                <a:cubicBezTo>
                  <a:pt x="42129" y="59901"/>
                  <a:pt x="39334" y="57142"/>
                  <a:pt x="37936" y="55763"/>
                </a:cubicBezTo>
                <a:cubicBezTo>
                  <a:pt x="35141" y="53004"/>
                  <a:pt x="35141" y="50049"/>
                  <a:pt x="35141" y="45911"/>
                </a:cubicBezTo>
                <a:cubicBezTo>
                  <a:pt x="35141" y="43152"/>
                  <a:pt x="35141" y="40394"/>
                  <a:pt x="37936" y="37635"/>
                </a:cubicBezTo>
                <a:cubicBezTo>
                  <a:pt x="39334" y="34876"/>
                  <a:pt x="42129" y="33300"/>
                  <a:pt x="46522" y="31921"/>
                </a:cubicBezTo>
                <a:cubicBezTo>
                  <a:pt x="50715" y="30541"/>
                  <a:pt x="54908" y="30541"/>
                  <a:pt x="59101" y="30541"/>
                </a:cubicBezTo>
                <a:cubicBezTo>
                  <a:pt x="63494" y="30541"/>
                  <a:pt x="67687" y="30541"/>
                  <a:pt x="70482" y="31921"/>
                </a:cubicBezTo>
                <a:cubicBezTo>
                  <a:pt x="73277" y="31921"/>
                  <a:pt x="76073" y="33300"/>
                  <a:pt x="77470" y="34876"/>
                </a:cubicBezTo>
                <a:cubicBezTo>
                  <a:pt x="78868" y="36256"/>
                  <a:pt x="80266" y="37635"/>
                  <a:pt x="81663" y="40394"/>
                </a:cubicBezTo>
                <a:cubicBezTo>
                  <a:pt x="83261" y="41773"/>
                  <a:pt x="83261" y="43152"/>
                  <a:pt x="83261" y="44532"/>
                </a:cubicBezTo>
                <a:cubicBezTo>
                  <a:pt x="83261" y="45911"/>
                  <a:pt x="83261" y="47290"/>
                  <a:pt x="81663" y="48669"/>
                </a:cubicBezTo>
                <a:cubicBezTo>
                  <a:pt x="80266" y="50049"/>
                  <a:pt x="78868" y="50049"/>
                  <a:pt x="76073" y="50049"/>
                </a:cubicBezTo>
                <a:cubicBezTo>
                  <a:pt x="74675" y="50049"/>
                  <a:pt x="73277" y="50049"/>
                  <a:pt x="73277" y="48669"/>
                </a:cubicBezTo>
                <a:cubicBezTo>
                  <a:pt x="71880" y="48669"/>
                  <a:pt x="70482" y="47290"/>
                  <a:pt x="70482" y="45911"/>
                </a:cubicBezTo>
                <a:cubicBezTo>
                  <a:pt x="69084" y="44532"/>
                  <a:pt x="67687" y="41773"/>
                  <a:pt x="66289" y="41773"/>
                </a:cubicBezTo>
                <a:cubicBezTo>
                  <a:pt x="64891" y="40394"/>
                  <a:pt x="62096" y="39014"/>
                  <a:pt x="59101" y="39014"/>
                </a:cubicBezTo>
                <a:cubicBezTo>
                  <a:pt x="54908" y="39014"/>
                  <a:pt x="52113" y="40394"/>
                  <a:pt x="50715" y="41773"/>
                </a:cubicBezTo>
                <a:cubicBezTo>
                  <a:pt x="49317" y="43152"/>
                  <a:pt x="47920" y="44532"/>
                  <a:pt x="47920" y="45911"/>
                </a:cubicBezTo>
                <a:cubicBezTo>
                  <a:pt x="47920" y="45911"/>
                  <a:pt x="47920" y="47290"/>
                  <a:pt x="49317" y="47290"/>
                </a:cubicBezTo>
                <a:cubicBezTo>
                  <a:pt x="49317" y="48669"/>
                  <a:pt x="50715" y="48669"/>
                  <a:pt x="52113" y="50049"/>
                </a:cubicBezTo>
                <a:cubicBezTo>
                  <a:pt x="52113" y="50049"/>
                  <a:pt x="53510" y="51428"/>
                  <a:pt x="54908" y="51428"/>
                </a:cubicBezTo>
                <a:cubicBezTo>
                  <a:pt x="56306" y="51428"/>
                  <a:pt x="59101" y="51428"/>
                  <a:pt x="62096" y="53004"/>
                </a:cubicBezTo>
                <a:cubicBezTo>
                  <a:pt x="64891" y="53004"/>
                  <a:pt x="69084" y="54384"/>
                  <a:pt x="71880" y="55763"/>
                </a:cubicBezTo>
                <a:cubicBezTo>
                  <a:pt x="74675" y="55763"/>
                  <a:pt x="77470" y="57142"/>
                  <a:pt x="78868" y="58522"/>
                </a:cubicBezTo>
                <a:cubicBezTo>
                  <a:pt x="81663" y="59901"/>
                  <a:pt x="83261" y="61280"/>
                  <a:pt x="84658" y="64039"/>
                </a:cubicBezTo>
                <a:cubicBezTo>
                  <a:pt x="86056" y="65418"/>
                  <a:pt x="86056" y="68177"/>
                  <a:pt x="86056" y="70935"/>
                </a:cubicBezTo>
                <a:cubicBezTo>
                  <a:pt x="86056" y="75270"/>
                  <a:pt x="84658" y="78029"/>
                  <a:pt x="83261" y="80788"/>
                </a:cubicBezTo>
                <a:close/>
                <a:moveTo>
                  <a:pt x="119800" y="89064"/>
                </a:moveTo>
                <a:lnTo>
                  <a:pt x="119800" y="89064"/>
                </a:lnTo>
                <a:cubicBezTo>
                  <a:pt x="119800" y="105812"/>
                  <a:pt x="105823" y="119802"/>
                  <a:pt x="90249" y="119802"/>
                </a:cubicBezTo>
                <a:cubicBezTo>
                  <a:pt x="81663" y="119802"/>
                  <a:pt x="74675" y="115665"/>
                  <a:pt x="69084" y="111330"/>
                </a:cubicBezTo>
                <a:cubicBezTo>
                  <a:pt x="66289" y="111330"/>
                  <a:pt x="63494" y="111330"/>
                  <a:pt x="59101" y="111330"/>
                </a:cubicBezTo>
                <a:cubicBezTo>
                  <a:pt x="30948" y="111330"/>
                  <a:pt x="6988" y="89064"/>
                  <a:pt x="6988" y="59901"/>
                </a:cubicBezTo>
                <a:cubicBezTo>
                  <a:pt x="6988" y="57142"/>
                  <a:pt x="6988" y="54384"/>
                  <a:pt x="8386" y="50049"/>
                </a:cubicBezTo>
                <a:cubicBezTo>
                  <a:pt x="2795" y="45911"/>
                  <a:pt x="0" y="37635"/>
                  <a:pt x="0" y="30541"/>
                </a:cubicBezTo>
                <a:cubicBezTo>
                  <a:pt x="0" y="13990"/>
                  <a:pt x="12579" y="0"/>
                  <a:pt x="29550" y="0"/>
                </a:cubicBezTo>
                <a:cubicBezTo>
                  <a:pt x="37936" y="0"/>
                  <a:pt x="45124" y="4137"/>
                  <a:pt x="50715" y="8275"/>
                </a:cubicBezTo>
                <a:cubicBezTo>
                  <a:pt x="53510" y="8275"/>
                  <a:pt x="56306" y="8275"/>
                  <a:pt x="59101" y="8275"/>
                </a:cubicBezTo>
                <a:cubicBezTo>
                  <a:pt x="88851" y="8275"/>
                  <a:pt x="112811" y="30541"/>
                  <a:pt x="112811" y="59901"/>
                </a:cubicBezTo>
                <a:cubicBezTo>
                  <a:pt x="112811" y="62660"/>
                  <a:pt x="111414" y="65418"/>
                  <a:pt x="111414" y="69556"/>
                </a:cubicBezTo>
                <a:cubicBezTo>
                  <a:pt x="117004" y="73891"/>
                  <a:pt x="119800" y="82167"/>
                  <a:pt x="119800" y="890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hape 5019"/>
          <p:cNvSpPr/>
          <p:nvPr/>
        </p:nvSpPr>
        <p:spPr>
          <a:xfrm>
            <a:off x="2043000" y="3538440"/>
            <a:ext cx="239760" cy="241560"/>
          </a:xfrm>
          <a:custGeom>
            <a:avLst/>
            <a:gdLst>
              <a:gd name="textAreaLeft" fmla="*/ 0 w 239760"/>
              <a:gd name="textAreaRight" fmla="*/ 240120 w 2397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04433" y="119802"/>
                </a:moveTo>
                <a:lnTo>
                  <a:pt x="104433" y="119802"/>
                </a:lnTo>
                <a:cubicBezTo>
                  <a:pt x="15369" y="119802"/>
                  <a:pt x="15369" y="119802"/>
                  <a:pt x="15369" y="119802"/>
                </a:cubicBezTo>
                <a:cubicBezTo>
                  <a:pt x="7093" y="119802"/>
                  <a:pt x="0" y="112709"/>
                  <a:pt x="0" y="104433"/>
                </a:cubicBezTo>
                <a:cubicBezTo>
                  <a:pt x="0" y="15369"/>
                  <a:pt x="0" y="15369"/>
                  <a:pt x="0" y="15369"/>
                </a:cubicBezTo>
                <a:cubicBezTo>
                  <a:pt x="0" y="6896"/>
                  <a:pt x="7093" y="0"/>
                  <a:pt x="15369" y="0"/>
                </a:cubicBezTo>
                <a:cubicBezTo>
                  <a:pt x="104433" y="0"/>
                  <a:pt x="104433" y="0"/>
                  <a:pt x="104433" y="0"/>
                </a:cubicBezTo>
                <a:cubicBezTo>
                  <a:pt x="112906" y="0"/>
                  <a:pt x="119802" y="6896"/>
                  <a:pt x="119802" y="15369"/>
                </a:cubicBezTo>
                <a:cubicBezTo>
                  <a:pt x="119802" y="104433"/>
                  <a:pt x="119802" y="104433"/>
                  <a:pt x="119802" y="104433"/>
                </a:cubicBezTo>
                <a:cubicBezTo>
                  <a:pt x="119802" y="112709"/>
                  <a:pt x="112906" y="119802"/>
                  <a:pt x="104433" y="119802"/>
                </a:cubicBezTo>
                <a:close/>
                <a:moveTo>
                  <a:pt x="59901" y="36256"/>
                </a:moveTo>
                <a:lnTo>
                  <a:pt x="59901" y="36256"/>
                </a:lnTo>
                <a:cubicBezTo>
                  <a:pt x="50049" y="36256"/>
                  <a:pt x="43152" y="41773"/>
                  <a:pt x="39014" y="50049"/>
                </a:cubicBezTo>
                <a:lnTo>
                  <a:pt x="39014" y="50049"/>
                </a:lnTo>
                <a:lnTo>
                  <a:pt x="39014" y="50049"/>
                </a:lnTo>
                <a:cubicBezTo>
                  <a:pt x="39014" y="51428"/>
                  <a:pt x="39014" y="51428"/>
                  <a:pt x="37635" y="51428"/>
                </a:cubicBezTo>
                <a:lnTo>
                  <a:pt x="37635" y="53004"/>
                </a:lnTo>
                <a:lnTo>
                  <a:pt x="37635" y="54384"/>
                </a:lnTo>
                <a:cubicBezTo>
                  <a:pt x="37635" y="54384"/>
                  <a:pt x="37635" y="54384"/>
                  <a:pt x="37635" y="55763"/>
                </a:cubicBezTo>
                <a:cubicBezTo>
                  <a:pt x="37635" y="55763"/>
                  <a:pt x="37635" y="55763"/>
                  <a:pt x="37635" y="57142"/>
                </a:cubicBezTo>
                <a:lnTo>
                  <a:pt x="37635" y="57142"/>
                </a:lnTo>
                <a:cubicBezTo>
                  <a:pt x="37635" y="58522"/>
                  <a:pt x="36256" y="58522"/>
                  <a:pt x="36256" y="59901"/>
                </a:cubicBezTo>
                <a:cubicBezTo>
                  <a:pt x="36256" y="72315"/>
                  <a:pt x="47290" y="83546"/>
                  <a:pt x="59901" y="83546"/>
                </a:cubicBezTo>
                <a:cubicBezTo>
                  <a:pt x="72512" y="83546"/>
                  <a:pt x="83546" y="72315"/>
                  <a:pt x="83546" y="59901"/>
                </a:cubicBezTo>
                <a:cubicBezTo>
                  <a:pt x="83546" y="58522"/>
                  <a:pt x="82167" y="58522"/>
                  <a:pt x="82167" y="57142"/>
                </a:cubicBezTo>
                <a:lnTo>
                  <a:pt x="82167" y="57142"/>
                </a:lnTo>
                <a:cubicBezTo>
                  <a:pt x="82167" y="55763"/>
                  <a:pt x="82167" y="55763"/>
                  <a:pt x="82167" y="55763"/>
                </a:cubicBezTo>
                <a:cubicBezTo>
                  <a:pt x="82167" y="54384"/>
                  <a:pt x="82167" y="54384"/>
                  <a:pt x="82167" y="54384"/>
                </a:cubicBezTo>
                <a:lnTo>
                  <a:pt x="82167" y="53004"/>
                </a:lnTo>
                <a:lnTo>
                  <a:pt x="82167" y="51428"/>
                </a:lnTo>
                <a:cubicBezTo>
                  <a:pt x="80788" y="51428"/>
                  <a:pt x="80788" y="51428"/>
                  <a:pt x="80788" y="50049"/>
                </a:cubicBezTo>
                <a:lnTo>
                  <a:pt x="80788" y="50049"/>
                </a:lnTo>
                <a:lnTo>
                  <a:pt x="80788" y="50049"/>
                </a:lnTo>
                <a:cubicBezTo>
                  <a:pt x="76650" y="41773"/>
                  <a:pt x="69753" y="36256"/>
                  <a:pt x="59901" y="36256"/>
                </a:cubicBezTo>
                <a:close/>
                <a:moveTo>
                  <a:pt x="105812" y="19507"/>
                </a:moveTo>
                <a:lnTo>
                  <a:pt x="105812" y="19507"/>
                </a:lnTo>
                <a:cubicBezTo>
                  <a:pt x="105812" y="16748"/>
                  <a:pt x="103054" y="13990"/>
                  <a:pt x="100295" y="13990"/>
                </a:cubicBezTo>
                <a:cubicBezTo>
                  <a:pt x="87684" y="13990"/>
                  <a:pt x="87684" y="13990"/>
                  <a:pt x="87684" y="13990"/>
                </a:cubicBezTo>
                <a:cubicBezTo>
                  <a:pt x="84926" y="13990"/>
                  <a:pt x="82167" y="16748"/>
                  <a:pt x="82167" y="19507"/>
                </a:cubicBezTo>
                <a:cubicBezTo>
                  <a:pt x="82167" y="31921"/>
                  <a:pt x="82167" y="31921"/>
                  <a:pt x="82167" y="31921"/>
                </a:cubicBezTo>
                <a:cubicBezTo>
                  <a:pt x="82167" y="34876"/>
                  <a:pt x="84926" y="37635"/>
                  <a:pt x="87684" y="37635"/>
                </a:cubicBezTo>
                <a:cubicBezTo>
                  <a:pt x="100295" y="37635"/>
                  <a:pt x="100295" y="37635"/>
                  <a:pt x="100295" y="37635"/>
                </a:cubicBezTo>
                <a:cubicBezTo>
                  <a:pt x="103054" y="37635"/>
                  <a:pt x="105812" y="34876"/>
                  <a:pt x="105812" y="31921"/>
                </a:cubicBezTo>
                <a:lnTo>
                  <a:pt x="105812" y="19507"/>
                </a:lnTo>
                <a:close/>
                <a:moveTo>
                  <a:pt x="105812" y="50049"/>
                </a:moveTo>
                <a:lnTo>
                  <a:pt x="105812" y="50049"/>
                </a:lnTo>
                <a:cubicBezTo>
                  <a:pt x="94778" y="50049"/>
                  <a:pt x="94778" y="50049"/>
                  <a:pt x="94778" y="50049"/>
                </a:cubicBezTo>
                <a:cubicBezTo>
                  <a:pt x="96157" y="53004"/>
                  <a:pt x="96157" y="57142"/>
                  <a:pt x="96157" y="59901"/>
                </a:cubicBezTo>
                <a:cubicBezTo>
                  <a:pt x="96157" y="79408"/>
                  <a:pt x="79408" y="96157"/>
                  <a:pt x="59901" y="96157"/>
                </a:cubicBezTo>
                <a:cubicBezTo>
                  <a:pt x="40394" y="96157"/>
                  <a:pt x="23645" y="79408"/>
                  <a:pt x="23645" y="59901"/>
                </a:cubicBezTo>
                <a:cubicBezTo>
                  <a:pt x="23645" y="57142"/>
                  <a:pt x="23645" y="53004"/>
                  <a:pt x="25024" y="50049"/>
                </a:cubicBezTo>
                <a:cubicBezTo>
                  <a:pt x="13990" y="50049"/>
                  <a:pt x="13990" y="50049"/>
                  <a:pt x="13990" y="50049"/>
                </a:cubicBezTo>
                <a:cubicBezTo>
                  <a:pt x="13990" y="100295"/>
                  <a:pt x="13990" y="100295"/>
                  <a:pt x="13990" y="100295"/>
                </a:cubicBezTo>
                <a:cubicBezTo>
                  <a:pt x="13990" y="103054"/>
                  <a:pt x="16748" y="105812"/>
                  <a:pt x="19507" y="105812"/>
                </a:cubicBezTo>
                <a:cubicBezTo>
                  <a:pt x="100295" y="105812"/>
                  <a:pt x="100295" y="105812"/>
                  <a:pt x="100295" y="105812"/>
                </a:cubicBezTo>
                <a:cubicBezTo>
                  <a:pt x="103054" y="105812"/>
                  <a:pt x="105812" y="103054"/>
                  <a:pt x="105812" y="100295"/>
                </a:cubicBezTo>
                <a:lnTo>
                  <a:pt x="105812" y="500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hape 5020"/>
          <p:cNvSpPr/>
          <p:nvPr/>
        </p:nvSpPr>
        <p:spPr>
          <a:xfrm>
            <a:off x="2782800" y="3559320"/>
            <a:ext cx="238320" cy="195120"/>
          </a:xfrm>
          <a:custGeom>
            <a:avLst/>
            <a:gdLst>
              <a:gd name="textAreaLeft" fmla="*/ 0 w 238320"/>
              <a:gd name="textAreaRight" fmla="*/ 238680 w 2383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81727" y="0"/>
                </a:moveTo>
                <a:lnTo>
                  <a:pt x="81727" y="0"/>
                </a:lnTo>
                <a:cubicBezTo>
                  <a:pt x="91495" y="0"/>
                  <a:pt x="95880" y="5322"/>
                  <a:pt x="101461" y="10403"/>
                </a:cubicBezTo>
                <a:cubicBezTo>
                  <a:pt x="105647" y="10403"/>
                  <a:pt x="111229" y="7016"/>
                  <a:pt x="114019" y="5322"/>
                </a:cubicBezTo>
                <a:cubicBezTo>
                  <a:pt x="115614" y="3629"/>
                  <a:pt x="115614" y="3629"/>
                  <a:pt x="117009" y="3629"/>
                </a:cubicBezTo>
                <a:cubicBezTo>
                  <a:pt x="115614" y="8709"/>
                  <a:pt x="112624" y="13790"/>
                  <a:pt x="108438" y="17177"/>
                </a:cubicBezTo>
                <a:cubicBezTo>
                  <a:pt x="108438" y="17177"/>
                  <a:pt x="107043" y="18870"/>
                  <a:pt x="105647" y="18870"/>
                </a:cubicBezTo>
                <a:lnTo>
                  <a:pt x="105647" y="18870"/>
                </a:lnTo>
                <a:cubicBezTo>
                  <a:pt x="111229" y="18870"/>
                  <a:pt x="115614" y="15483"/>
                  <a:pt x="119800" y="15483"/>
                </a:cubicBezTo>
                <a:lnTo>
                  <a:pt x="119800" y="15483"/>
                </a:lnTo>
                <a:cubicBezTo>
                  <a:pt x="118405" y="18870"/>
                  <a:pt x="115614" y="23951"/>
                  <a:pt x="111229" y="25645"/>
                </a:cubicBezTo>
                <a:cubicBezTo>
                  <a:pt x="109833" y="27338"/>
                  <a:pt x="109833" y="29274"/>
                  <a:pt x="108438" y="30967"/>
                </a:cubicBezTo>
                <a:cubicBezTo>
                  <a:pt x="108438" y="37741"/>
                  <a:pt x="108438" y="42822"/>
                  <a:pt x="107043" y="49596"/>
                </a:cubicBezTo>
                <a:cubicBezTo>
                  <a:pt x="100066" y="82258"/>
                  <a:pt x="84518" y="106209"/>
                  <a:pt x="59202" y="116370"/>
                </a:cubicBezTo>
                <a:cubicBezTo>
                  <a:pt x="49235" y="119758"/>
                  <a:pt x="33887" y="119758"/>
                  <a:pt x="23920" y="118064"/>
                </a:cubicBezTo>
                <a:cubicBezTo>
                  <a:pt x="18338" y="116370"/>
                  <a:pt x="14152" y="114677"/>
                  <a:pt x="8372" y="111290"/>
                </a:cubicBezTo>
                <a:cubicBezTo>
                  <a:pt x="6976" y="109596"/>
                  <a:pt x="4186" y="109596"/>
                  <a:pt x="2790" y="107903"/>
                </a:cubicBezTo>
                <a:cubicBezTo>
                  <a:pt x="1395" y="106209"/>
                  <a:pt x="1395" y="106209"/>
                  <a:pt x="0" y="106209"/>
                </a:cubicBezTo>
                <a:cubicBezTo>
                  <a:pt x="2790" y="106209"/>
                  <a:pt x="5581" y="106209"/>
                  <a:pt x="8372" y="106209"/>
                </a:cubicBezTo>
                <a:cubicBezTo>
                  <a:pt x="9966" y="106209"/>
                  <a:pt x="12757" y="106209"/>
                  <a:pt x="15548" y="104516"/>
                </a:cubicBezTo>
                <a:cubicBezTo>
                  <a:pt x="21129" y="102580"/>
                  <a:pt x="25315" y="100887"/>
                  <a:pt x="29501" y="99193"/>
                </a:cubicBezTo>
                <a:cubicBezTo>
                  <a:pt x="32491" y="97500"/>
                  <a:pt x="35282" y="95806"/>
                  <a:pt x="36677" y="92419"/>
                </a:cubicBezTo>
                <a:cubicBezTo>
                  <a:pt x="33887" y="92419"/>
                  <a:pt x="31096" y="92419"/>
                  <a:pt x="29501" y="92419"/>
                </a:cubicBezTo>
                <a:cubicBezTo>
                  <a:pt x="21129" y="89032"/>
                  <a:pt x="16943" y="82258"/>
                  <a:pt x="14152" y="71854"/>
                </a:cubicBezTo>
                <a:cubicBezTo>
                  <a:pt x="15548" y="73548"/>
                  <a:pt x="22524" y="73548"/>
                  <a:pt x="23920" y="71854"/>
                </a:cubicBezTo>
                <a:cubicBezTo>
                  <a:pt x="21129" y="71854"/>
                  <a:pt x="18338" y="70161"/>
                  <a:pt x="16943" y="68467"/>
                </a:cubicBezTo>
                <a:cubicBezTo>
                  <a:pt x="9966" y="63387"/>
                  <a:pt x="4186" y="54919"/>
                  <a:pt x="4186" y="42822"/>
                </a:cubicBezTo>
                <a:cubicBezTo>
                  <a:pt x="5581" y="42822"/>
                  <a:pt x="6976" y="42822"/>
                  <a:pt x="6976" y="44516"/>
                </a:cubicBezTo>
                <a:cubicBezTo>
                  <a:pt x="8372" y="44516"/>
                  <a:pt x="9966" y="44516"/>
                  <a:pt x="12757" y="46209"/>
                </a:cubicBezTo>
                <a:lnTo>
                  <a:pt x="15548" y="46209"/>
                </a:lnTo>
                <a:lnTo>
                  <a:pt x="15548" y="46209"/>
                </a:lnTo>
                <a:cubicBezTo>
                  <a:pt x="14152" y="44516"/>
                  <a:pt x="12757" y="42822"/>
                  <a:pt x="11362" y="41129"/>
                </a:cubicBezTo>
                <a:cubicBezTo>
                  <a:pt x="6976" y="34354"/>
                  <a:pt x="2790" y="25645"/>
                  <a:pt x="5581" y="13790"/>
                </a:cubicBezTo>
                <a:cubicBezTo>
                  <a:pt x="5581" y="10403"/>
                  <a:pt x="6976" y="8709"/>
                  <a:pt x="8372" y="7016"/>
                </a:cubicBezTo>
                <a:lnTo>
                  <a:pt x="8372" y="7016"/>
                </a:lnTo>
                <a:cubicBezTo>
                  <a:pt x="8372" y="7016"/>
                  <a:pt x="9966" y="8709"/>
                  <a:pt x="11362" y="8709"/>
                </a:cubicBezTo>
                <a:cubicBezTo>
                  <a:pt x="12757" y="12096"/>
                  <a:pt x="15548" y="15483"/>
                  <a:pt x="18338" y="17177"/>
                </a:cubicBezTo>
                <a:cubicBezTo>
                  <a:pt x="26710" y="25645"/>
                  <a:pt x="35282" y="30967"/>
                  <a:pt x="47840" y="36048"/>
                </a:cubicBezTo>
                <a:cubicBezTo>
                  <a:pt x="52026" y="36048"/>
                  <a:pt x="55016" y="37741"/>
                  <a:pt x="59202" y="37741"/>
                </a:cubicBezTo>
                <a:cubicBezTo>
                  <a:pt x="57807" y="32661"/>
                  <a:pt x="57807" y="27338"/>
                  <a:pt x="59202" y="23951"/>
                </a:cubicBezTo>
                <a:cubicBezTo>
                  <a:pt x="61993" y="13790"/>
                  <a:pt x="66179" y="7016"/>
                  <a:pt x="73355" y="3629"/>
                </a:cubicBezTo>
                <a:cubicBezTo>
                  <a:pt x="74750" y="1935"/>
                  <a:pt x="77541" y="1935"/>
                  <a:pt x="78936" y="1935"/>
                </a:cubicBezTo>
                <a:cubicBezTo>
                  <a:pt x="80332" y="1935"/>
                  <a:pt x="80332" y="0"/>
                  <a:pt x="81727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hape 5030"/>
          <p:cNvSpPr/>
          <p:nvPr/>
        </p:nvSpPr>
        <p:spPr>
          <a:xfrm>
            <a:off x="1281240" y="3567240"/>
            <a:ext cx="284040" cy="193680"/>
          </a:xfrm>
          <a:custGeom>
            <a:avLst/>
            <a:gdLst>
              <a:gd name="textAreaLeft" fmla="*/ 0 w 284040"/>
              <a:gd name="textAreaRight" fmla="*/ 284400 w 2840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20000" h="120000">
                <a:moveTo>
                  <a:pt x="101630" y="0"/>
                </a:moveTo>
                <a:lnTo>
                  <a:pt x="101630" y="0"/>
                </a:lnTo>
                <a:cubicBezTo>
                  <a:pt x="62096" y="0"/>
                  <a:pt x="62096" y="0"/>
                  <a:pt x="62096" y="0"/>
                </a:cubicBezTo>
                <a:cubicBezTo>
                  <a:pt x="21164" y="0"/>
                  <a:pt x="21164" y="0"/>
                  <a:pt x="21164" y="0"/>
                </a:cubicBezTo>
                <a:cubicBezTo>
                  <a:pt x="11181" y="0"/>
                  <a:pt x="0" y="10218"/>
                  <a:pt x="0" y="24817"/>
                </a:cubicBezTo>
                <a:cubicBezTo>
                  <a:pt x="0" y="96934"/>
                  <a:pt x="0" y="96934"/>
                  <a:pt x="0" y="96934"/>
                </a:cubicBezTo>
                <a:cubicBezTo>
                  <a:pt x="0" y="111240"/>
                  <a:pt x="11181" y="119708"/>
                  <a:pt x="21164" y="119708"/>
                </a:cubicBezTo>
                <a:cubicBezTo>
                  <a:pt x="63494" y="119708"/>
                  <a:pt x="63494" y="119708"/>
                  <a:pt x="63494" y="119708"/>
                </a:cubicBezTo>
                <a:cubicBezTo>
                  <a:pt x="101630" y="119708"/>
                  <a:pt x="101630" y="119708"/>
                  <a:pt x="101630" y="119708"/>
                </a:cubicBezTo>
                <a:cubicBezTo>
                  <a:pt x="111414" y="119708"/>
                  <a:pt x="119800" y="111240"/>
                  <a:pt x="119800" y="96934"/>
                </a:cubicBezTo>
                <a:cubicBezTo>
                  <a:pt x="119800" y="24817"/>
                  <a:pt x="119800" y="24817"/>
                  <a:pt x="119800" y="24817"/>
                </a:cubicBezTo>
                <a:cubicBezTo>
                  <a:pt x="119800" y="10218"/>
                  <a:pt x="111414" y="0"/>
                  <a:pt x="101630" y="0"/>
                </a:cubicBezTo>
                <a:close/>
                <a:moveTo>
                  <a:pt x="52113" y="88759"/>
                </a:moveTo>
                <a:lnTo>
                  <a:pt x="52113" y="88759"/>
                </a:lnTo>
                <a:cubicBezTo>
                  <a:pt x="52113" y="32992"/>
                  <a:pt x="52113" y="32992"/>
                  <a:pt x="52113" y="32992"/>
                </a:cubicBezTo>
                <a:cubicBezTo>
                  <a:pt x="77670" y="59854"/>
                  <a:pt x="77670" y="59854"/>
                  <a:pt x="77670" y="59854"/>
                </a:cubicBezTo>
                <a:lnTo>
                  <a:pt x="52113" y="887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21"/>
          <p:cNvSpPr/>
          <p:nvPr/>
        </p:nvSpPr>
        <p:spPr>
          <a:xfrm>
            <a:off x="1092240" y="1668600"/>
            <a:ext cx="744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FOLLO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23"/>
          <p:cNvSpPr/>
          <p:nvPr/>
        </p:nvSpPr>
        <p:spPr>
          <a:xfrm>
            <a:off x="1079640" y="2249640"/>
            <a:ext cx="60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44"/>
          <p:cNvSpPr/>
          <p:nvPr/>
        </p:nvSpPr>
        <p:spPr>
          <a:xfrm>
            <a:off x="1092240" y="4413240"/>
            <a:ext cx="413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42"/>
          <p:cNvSpPr/>
          <p:nvPr/>
        </p:nvSpPr>
        <p:spPr>
          <a:xfrm>
            <a:off x="5987880" y="4378320"/>
            <a:ext cx="306720" cy="192096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45"/>
          <p:cNvSpPr/>
          <p:nvPr/>
        </p:nvSpPr>
        <p:spPr>
          <a:xfrm rot="2601600">
            <a:off x="10950120" y="4087800"/>
            <a:ext cx="109800" cy="24019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46"/>
          <p:cNvSpPr/>
          <p:nvPr/>
        </p:nvSpPr>
        <p:spPr>
          <a:xfrm rot="8100000">
            <a:off x="11148480" y="682560"/>
            <a:ext cx="146160" cy="168264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6095520" y="1146240"/>
            <a:ext cx="53341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1"/>
          <p:cNvSpPr/>
          <p:nvPr/>
        </p:nvSpPr>
        <p:spPr>
          <a:xfrm>
            <a:off x="2004840" y="2749680"/>
            <a:ext cx="818208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38"/>
                </a:solidFill>
                <a:latin typeface="Monument Extended"/>
                <a:ea typeface="Roboto Slab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37"/>
          <p:cNvSpPr/>
          <p:nvPr/>
        </p:nvSpPr>
        <p:spPr>
          <a:xfrm>
            <a:off x="4265640" y="5067360"/>
            <a:ext cx="3660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TextBox 38" descr=""/>
          <p:cNvPicPr/>
          <p:nvPr/>
        </p:nvPicPr>
        <p:blipFill>
          <a:blip r:embed="rId1"/>
          <a:stretch/>
        </p:blipFill>
        <p:spPr>
          <a:xfrm>
            <a:off x="7626240" y="201600"/>
            <a:ext cx="1932120" cy="1951200"/>
          </a:xfrm>
          <a:prstGeom prst="rect">
            <a:avLst/>
          </a:prstGeom>
          <a:ln w="0">
            <a:noFill/>
          </a:ln>
        </p:spPr>
      </p:pic>
      <p:pic>
        <p:nvPicPr>
          <p:cNvPr id="463" name="Rectangle 39" descr=""/>
          <p:cNvPicPr/>
          <p:nvPr/>
        </p:nvPicPr>
        <p:blipFill>
          <a:blip r:embed="rId2"/>
          <a:stretch/>
        </p:blipFill>
        <p:spPr>
          <a:xfrm>
            <a:off x="2004840" y="2932200"/>
            <a:ext cx="8182080" cy="1627200"/>
          </a:xfrm>
          <a:prstGeom prst="rect">
            <a:avLst/>
          </a:prstGeom>
          <a:ln w="0">
            <a:noFill/>
          </a:ln>
        </p:spPr>
      </p:pic>
      <p:pic>
        <p:nvPicPr>
          <p:cNvPr id="464" name="Rectangle 40" descr=""/>
          <p:cNvPicPr/>
          <p:nvPr/>
        </p:nvPicPr>
        <p:blipFill>
          <a:blip r:embed="rId3"/>
          <a:stretch/>
        </p:blipFill>
        <p:spPr>
          <a:xfrm>
            <a:off x="2004840" y="3108240"/>
            <a:ext cx="8182080" cy="163512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41"/>
          <p:cNvSpPr/>
          <p:nvPr/>
        </p:nvSpPr>
        <p:spPr>
          <a:xfrm rot="14400000">
            <a:off x="3674880" y="4680"/>
            <a:ext cx="12240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42"/>
          <p:cNvSpPr/>
          <p:nvPr/>
        </p:nvSpPr>
        <p:spPr>
          <a:xfrm>
            <a:off x="3436920" y="333360"/>
            <a:ext cx="157320" cy="17604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Graphic 45" descr=""/>
          <p:cNvPicPr/>
          <p:nvPr/>
        </p:nvPicPr>
        <p:blipFill>
          <a:blip r:embed="rId4"/>
          <a:stretch/>
        </p:blipFill>
        <p:spPr>
          <a:xfrm>
            <a:off x="9350280" y="5067360"/>
            <a:ext cx="1549440" cy="8920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5"/>
          <a:stretch/>
        </p:blipFill>
        <p:spPr>
          <a:xfrm>
            <a:off x="3492360" y="876240"/>
            <a:ext cx="5207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3"/>
          <p:cNvSpPr/>
          <p:nvPr/>
        </p:nvSpPr>
        <p:spPr>
          <a:xfrm>
            <a:off x="3673440" y="520560"/>
            <a:ext cx="486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IC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3T18:57:55Z</dcterms:created>
  <dc:creator>one studio</dc:creator>
  <dc:description/>
  <dc:language>en-US</dc:language>
  <cp:lastModifiedBy>Harist</cp:lastModifiedBy>
  <dcterms:modified xsi:type="dcterms:W3CDTF">2022-11-09T16:00:49Z</dcterms:modified>
  <cp:revision>37</cp:revision>
  <dc:subject/>
  <dc:title>PowerPoint Presentation</dc:title>
</cp:coreProperties>
</file>